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BC1D-70E5-4E53-A169-0D1DFFCB8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6E3C-814A-4F61-BB6C-ED89031B0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7282-6B7D-4B51-A49F-671EBC678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F3DF-045C-4E21-A850-148A3C0D5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98BA6-33EE-479F-A984-B90DA7DE9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9C5F9-8735-43B9-A791-9438E6E95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F0723-6C4C-4DCE-830F-C5B202322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FE99F-57AD-4D9E-A832-1025BF0FF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6B8F8-3AFE-4E70-B784-A4DB24634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00AEC-65F7-461C-A14A-B054C5254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40F8F-19EF-4B81-95EB-F6F15E998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1D7C-3DC4-445D-91D4-E0CEB6844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2B45C-0F73-4655-8995-84AABFDFD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D1F5F-4458-4F15-B1D1-3A91C1696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1CFFD-F338-40ED-A1FB-57F58F17D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5A0EC-8947-424E-96F9-7DA37F6B3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EE92D-745C-4018-9F35-CC37C861E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8BC7-0CC4-43C4-91B9-92B6E4CA5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60A8-2414-4B9F-B300-E3C2FDB7A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A0D1-01DD-4B83-B46E-5C22A8CB0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1A22-A8DD-4819-9B8B-D4FAED258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4BEC-31FB-4601-9F52-C95AECFA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CEC8-26F0-4720-886D-24432AA20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1D75-D5E4-4F74-A7B3-7AF41A4E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96077-7D9E-4ACA-BBDD-8BD7620FF1A1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20BF5-55DC-43BA-9DC9-CF0E635ADBD3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685800" y="3124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i="1" lang="en-US" sz="4800" spc="-1" strike="noStrike">
                <a:solidFill>
                  <a:srgbClr val="000000"/>
                </a:solidFill>
                <a:latin typeface="Book Antiqua"/>
              </a:rPr>
              <a:t>Emergency Management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1523880" y="4495680"/>
            <a:ext cx="6324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Security and Loss Prevention Management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985AA-5604-428E-8A4B-03425948E8B5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0" y="2133720"/>
            <a:ext cx="9144000" cy="37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68320" indent="-403200">
              <a:lnSpc>
                <a:spcPct val="100000"/>
              </a:lnSpc>
              <a:spcBef>
                <a:spcPts val="1874"/>
              </a:spcBef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  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Do not allow media representatives unescorted access to the property—whether to check damage or interview guests and witnesses.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868320" indent="-403200">
              <a:lnSpc>
                <a:spcPct val="100000"/>
              </a:lnSpc>
              <a:spcBef>
                <a:spcPts val="1874"/>
              </a:spcBef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  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If possible, deliver information to the media at a scheduled time, so all reporters get the same information at the same time.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Basic Steps for Crisis Communications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E0B1C-9382-4F39-95A0-25F44AFFC7F8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5" name="Rectangle 15"/>
          <p:cNvSpPr/>
          <p:nvPr/>
        </p:nvSpPr>
        <p:spPr>
          <a:xfrm>
            <a:off x="152280" y="1676520"/>
            <a:ext cx="9144000" cy="39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6480" indent="-441360"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906480" indent="-441360">
              <a:lnSpc>
                <a:spcPct val="100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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What emergencies are likely to occur?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906480" indent="-441360">
              <a:lnSpc>
                <a:spcPct val="100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  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What local organizations can provide emergency information and support?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906480" indent="-441360">
              <a:lnSpc>
                <a:spcPct val="100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  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Which staff members have skills that would be useful in an emergency situation?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906480" indent="-44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6" name="Rectangle 16"/>
          <p:cNvSpPr/>
          <p:nvPr/>
        </p:nvSpPr>
        <p:spPr>
          <a:xfrm>
            <a:off x="0" y="3650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Considerations of an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Emergency Management Program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973B0-DE21-42F6-B566-27D159F58C96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0" y="2286000"/>
            <a:ext cx="9144000" cy="33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9720" indent="-444600">
              <a:lnSpc>
                <a:spcPct val="100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  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What are the hotel's emergency equipment and supply needs?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909720" indent="-444600">
              <a:lnSpc>
                <a:spcPct val="100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  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When an emergency occurs, how should communication continue?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909720" indent="-444600">
              <a:lnSpc>
                <a:spcPct val="100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  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What steps need to be taken to prepare staff for an emergency at the hotel?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Considerations of an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Emergency Management Program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0" y="16002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 Antiqua"/>
              </a:rPr>
              <a:t>(continued)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05547-F7C2-4CCD-9B47-0BBCDD043717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2" name="Rectangle 15"/>
          <p:cNvSpPr/>
          <p:nvPr/>
        </p:nvSpPr>
        <p:spPr>
          <a:xfrm>
            <a:off x="0" y="63388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 Antiqua"/>
              </a:rPr>
              <a:t>(continued)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3" name="Rectangle 16"/>
          <p:cNvSpPr/>
          <p:nvPr/>
        </p:nvSpPr>
        <p:spPr>
          <a:xfrm>
            <a:off x="152280" y="1066680"/>
            <a:ext cx="9144000" cy="46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6480" indent="-441360"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906480" indent="-441360">
              <a:lnSpc>
                <a:spcPct val="100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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Establish a command center.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906480" indent="-441360">
              <a:lnSpc>
                <a:spcPct val="100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  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Assign personnel to appropriate response teams, based on their skills and availability.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906480" indent="-441360">
              <a:lnSpc>
                <a:spcPct val="100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  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Stock first-aid supplies and train staff in their use.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906480" indent="-441360">
              <a:lnSpc>
                <a:spcPct val="100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  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Establish food and water reserves.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906480" indent="-44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4" name="Rectangle 17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Earthquake Preparations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B8CB5-E386-45D6-93C7-B66997F8C70E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-76320" y="1600200"/>
            <a:ext cx="9144000" cy="26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9720" indent="-444600">
              <a:lnSpc>
                <a:spcPct val="100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  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Make certain the appropriate tools are available to shut off gas and water valves.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909720" indent="-444600">
              <a:lnSpc>
                <a:spcPct val="100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  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Provide flashlights and extra batteries, and establish a regular schedule for verifying they are in working order.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Earthquake Preparations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0" y="9144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 Antiqua"/>
              </a:rPr>
              <a:t>(continued)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103D0-B4F5-47B9-8743-16CFEF0E73BA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" name="Rectangle 12"/>
          <p:cNvSpPr/>
          <p:nvPr/>
        </p:nvSpPr>
        <p:spPr>
          <a:xfrm>
            <a:off x="7996320" y="95724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64008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 Antiqua"/>
              </a:rPr>
              <a:t>(continued)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2" name="Rectangle 16"/>
          <p:cNvSpPr/>
          <p:nvPr/>
        </p:nvSpPr>
        <p:spPr>
          <a:xfrm>
            <a:off x="0" y="914400"/>
            <a:ext cx="9144000" cy="625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6480" indent="-441360"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906480" indent="-441360">
              <a:lnSpc>
                <a:spcPct val="100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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Every hotel must have a staff member trained in first aid be present on each work shift, unless there is ready access to medical services.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906480" indent="-441360">
              <a:lnSpc>
                <a:spcPct val="100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  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Prior to an emergency, understand who to call and how long it may take for assistance to arrive.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906480" indent="-441360">
              <a:lnSpc>
                <a:spcPct val="100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  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Develop a list of local physicians, dentists, and medical facilities for guests' convenience.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906480" indent="-44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Medical Emergencies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B601C-C2BB-42E6-B1C8-05C5713D17D2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" name="Rectangle 15"/>
          <p:cNvSpPr/>
          <p:nvPr/>
        </p:nvSpPr>
        <p:spPr>
          <a:xfrm>
            <a:off x="304920" y="1752480"/>
            <a:ext cx="8762760" cy="48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8960" indent="-393840">
              <a:lnSpc>
                <a:spcPct val="100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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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Consider offering cardiopulmonary resuscitation (CPR) training to staff.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858960" indent="-393840">
              <a:lnSpc>
                <a:spcPct val="100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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  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Never move a guest to a medical facility in anything other than an ambulance (unless there is a major, community-wide emergency).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858960" indent="-393840">
              <a:lnSpc>
                <a:spcPct val="100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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  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Develop procedures for advising callers of a guest's illness or hospitalization.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858960" indent="-39384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858960" indent="-393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" name="Rectangle 16"/>
          <p:cNvSpPr/>
          <p:nvPr/>
        </p:nvSpPr>
        <p:spPr>
          <a:xfrm>
            <a:off x="0" y="3808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Medical Emergencies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7" name="Rectangle 17"/>
          <p:cNvSpPr/>
          <p:nvPr/>
        </p:nvSpPr>
        <p:spPr>
          <a:xfrm>
            <a:off x="0" y="990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 Antiqua"/>
              </a:rPr>
              <a:t>(continued)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8BDBB-8EC8-4FAD-B22B-617078ED8460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9" name="Rectangle 1034"/>
          <p:cNvSpPr/>
          <p:nvPr/>
        </p:nvSpPr>
        <p:spPr>
          <a:xfrm>
            <a:off x="-76320" y="533520"/>
            <a:ext cx="9144000" cy="67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6480" indent="-441360"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 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906480" indent="-441360">
              <a:lnSpc>
                <a:spcPct val="100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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Coordinate preparation with local authoritie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and legal counsel.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906480" indent="-441360">
              <a:lnSpc>
                <a:spcPct val="100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  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Develop plans for negotiating and food rationing, should they become necessary.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906480" indent="-441360">
              <a:lnSpc>
                <a:spcPct val="100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  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Focus perimeter protection on buildings: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906480" indent="-441360"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Basement and ground-level window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All entrances other than the main entrance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to the lobby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The roof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906480" indent="-44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0" name="Rectangle 1035"/>
          <p:cNvSpPr/>
          <p:nvPr/>
        </p:nvSpPr>
        <p:spPr>
          <a:xfrm>
            <a:off x="0" y="3650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Riots and Civil Disturbances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1" name="Rectangle 1036"/>
          <p:cNvSpPr/>
          <p:nvPr/>
        </p:nvSpPr>
        <p:spPr>
          <a:xfrm>
            <a:off x="0" y="64008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 Antiqua"/>
              </a:rPr>
              <a:t>(continued)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882D6-A477-4EFA-995A-6FF698905986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0" y="1676520"/>
            <a:ext cx="9144000" cy="38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6480" indent="-44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906480" indent="-441360">
              <a:lnSpc>
                <a:spcPct val="100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Contact legal counsel for advice regarding any proposed statement to the media.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906480" indent="-441360">
              <a:lnSpc>
                <a:spcPct val="100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  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Quickly and accurately determine the facts.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906480" indent="-441360">
              <a:lnSpc>
                <a:spcPct val="100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  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Designate only one spokesperson for the property.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906480" indent="-44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0" y="3650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Basic Steps for Crisis Communications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0" y="64152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 Antiqua"/>
              </a:rPr>
              <a:t>(continued)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03:29:39Z</dcterms:created>
  <dc:creator>robert</dc:creator>
  <dc:description/>
  <dc:language>en-US</dc:language>
  <cp:lastModifiedBy>robert</cp:lastModifiedBy>
  <dcterms:modified xsi:type="dcterms:W3CDTF">2011-04-13T03:41:19Z</dcterms:modified>
  <cp:revision>2</cp:revision>
  <dc:subject/>
  <dc:title>Slide 1</dc:title>
</cp:coreProperties>
</file>